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988-2240-4B33-BDB4-34829B85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A2CB-C1DD-4D3A-866E-2841F7C7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9B6-55C7-420B-AA2B-7E95543C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C582-EB9A-46B7-B4E7-B5C43F1B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19A-08A7-4B97-9705-0BD9E40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2267-D51A-4537-9717-F889909F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8C1-C47A-43FA-8A52-41ADCE17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1CE-3801-48A3-B279-D5B98709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15C-8A7C-4360-A1C8-A4FD692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F8E-481E-491C-9A84-2FBBC618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4CA-EAC2-4EAE-9623-57357E5E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5BD-F3C3-4790-B1C6-122CDCD7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8A9B-D720-46DF-8C7E-922FE999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y Unterhalt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5331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chreibt eine “Handy” Unterhaltung.  You are only writing one part of the conversation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UNDERLINE TH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hello and introduce yourself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ite (using ein*laden) the person on the other end to go somewhere with you using our “in” vocabulary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 both a time (NOT ON THE HOUR), a day of the week and a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ff camera/phone, the other person will decline the invitation and suggest an alternate time or day of the week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to that sug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icht or kein in the conver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form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*hol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t*geh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*fa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 goodb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umbers must be written out a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hand this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it on google voice 215 690 13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 ideas:  Use wo, a date, anrufen vocab or grammar from another chapte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1349280"/>
            <a:ext cx="910260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lete.  Missing the majority of the require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what incomplete.  Missing many requirements and had many irrelevant detai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ly complete.  Was missing one or two requir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hensibilit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mprehens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is difficult to underst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ropriate language.  Clearly conveys the main 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curac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orrect or incomplete sentences.  Usage problems significantly distort mess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y incorrect required elements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All sentences were complete, but there were minor problems with vocabulary or spelling.  (minor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stly correct.  Very few or no problems with grammar and spelling.  (No errors in required elemen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ffo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oes not meet require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ets requirements,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nt above and beyond what was expected in terms of content and creativ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sentation: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 was sloppy or had crossed out wor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ll organized.  Easily readab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POK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LUENCY – ARE YOU SPEAKING SMOOTHL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Uneven, long pauses, incomplete phrases and senten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 hesitation, but thoughts are complete phrased and intoned proper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Very few pauses or very little stumbling over words, sounds close to  a native speaker’s language for this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NUNCIATION – ARE YOU PRONOUNCING “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UF DEUTSCH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     Mispronunciation frequently makes it difficult to underst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     Sometimes pronunciation makes it hard to understand. Only a sympathetic listener would understand yo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     Not perfect, but does not interfere with understan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     Intonation really helps understanding of liste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7620120" y="47671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0"/>
            <a:ext cx="910260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 ______________________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 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____/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ladung/Invitation ______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______/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______/3 (1 for spelling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y of week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ine ____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suggestion  ______/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ht/kein ____/2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holen/mitgehen/anfangen ________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gern __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bye _____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924680" y="13352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/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590920" y="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5 690-138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get one chanc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phone quickly back and f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use speaker 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INE YOUR REQUIREMENTS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19:07:17Z</dcterms:created>
  <dc:creator>udsd</dc:creator>
  <dc:description/>
  <dc:language>en-US</dc:language>
  <cp:lastModifiedBy>tmsadmin</cp:lastModifiedBy>
  <dcterms:modified xsi:type="dcterms:W3CDTF">2013-12-12T15:38:33Z</dcterms:modified>
  <cp:revision>22</cp:revision>
  <dc:subject/>
  <dc:title>Handy Unterhaltung</dc:title>
</cp:coreProperties>
</file>